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511-F410-4F64-BBAA-3C045563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2568-37B5-4B04-8726-ADE5DE85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4560-0402-4A72-BA44-8E61A592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499E-9E14-4B18-976A-C1B804EE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11D5B-6593-4945-9EC4-08D4D964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CE9EC-EC1B-424B-B8E2-C454B280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7C7FB-6AC9-4D70-9AF3-24CBE0E8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9D172-6A31-487F-88FC-DFE8A842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BEEF3-5771-4BFB-8210-2DA9CEDF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38974-90CF-4354-841D-368698AD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E46B6-9BBB-41F1-B690-04287921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F838-76E7-4215-927F-13FCDBE3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DA7AF-572F-4332-8D3C-1F148DB0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C4334-9749-498D-BA65-153D48B0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EA1F9-5384-4EDD-91B8-78ED8F0A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1D183-55F7-47FB-AEBE-C66C1FAF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D9921-1382-490F-885D-1E1CDAD2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5422-83A8-46B9-996A-8F6E7D37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BA44-0EC1-4BCB-BED8-972F33A5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383-C8FB-46DF-A8C2-73C3AAE1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04F-BC33-44A0-AF4F-6D5FB23E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CD9-6D97-4997-92C3-83B0053E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CF8-3223-4C21-87E5-D45E3B31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024-7D5D-413A-87D3-7EA5A467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4EA1-8BAE-4EC4-AD9F-E0247DBD98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F623-B43D-4002-99AA-90CDE828AB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0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br>
              <a:rPr sz="6000"/>
            </a:br>
            <a:r>
              <a:rPr b="1" lang="de-CH" sz="2000" spc="-1" strike="noStrike">
                <a:solidFill>
                  <a:srgbClr val="ffffff"/>
                </a:solidFill>
                <a:latin typeface="Tahoma"/>
              </a:rPr>
              <a:t>by atlan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owerpoint by robocop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music by maliktrey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2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02120" y="1916280"/>
            <a:ext cx="2909880" cy="442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27612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ahoma"/>
              </a:rPr>
              <a:t>0r w3 c@11 th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ahoma"/>
              </a:rPr>
              <a:t>th3y w1ll @rr3st y0u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1862280"/>
            <a:ext cx="612000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600"/>
                            </p:stCondLst>
                            <p:childTnLst>
                              <p:par>
                                <p:cTn id="331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92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192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700"/>
                            </p:stCondLst>
                            <p:childTnLst>
                              <p:par>
                                <p:cTn id="3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200"/>
                            </p:stCondLst>
                            <p:childTnLst>
                              <p:par>
                                <p:cTn id="35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457200"/>
            <a:ext cx="2489040" cy="594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248292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348000" y="476280"/>
            <a:ext cx="2376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j@1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1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funn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200"/>
                            </p:stCondLst>
                            <p:childTnLst>
                              <p:par>
                                <p:cTn id="41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41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25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200"/>
                            </p:stCondLst>
                            <p:childTnLst>
                              <p:par>
                                <p:cTn id="421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25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3200"/>
                            </p:stCondLst>
                            <p:childTnLst>
                              <p:par>
                                <p:cTn id="425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200"/>
                            </p:stCondLst>
                            <p:childTnLst>
                              <p:par>
                                <p:cTn id="429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200"/>
                            </p:stCondLst>
                            <p:childTnLst>
                              <p:par>
                                <p:cTn id="433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700"/>
                            </p:stCondLst>
                            <p:childTnLst>
                              <p:par>
                                <p:cTn id="437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6200"/>
                            </p:stCondLst>
                            <p:childTnLst>
                              <p:par>
                                <p:cTn id="441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6700"/>
                            </p:stCondLst>
                            <p:childTnLst>
                              <p:par>
                                <p:cTn id="445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200"/>
                            </p:stCondLst>
                            <p:childTnLst>
                              <p:par>
                                <p:cTn id="449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7750"/>
                            </p:stCondLst>
                            <p:childTnLst>
                              <p:par>
                                <p:cTn id="453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750"/>
                            </p:stCondLst>
                            <p:childTnLst>
                              <p:par>
                                <p:cTn id="45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another nice atlantis release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greetings to all our friends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+++ no carrier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89323 -0.82084 E">
                                      <p:cBhvr>
                                        <p:cTn id="47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88212 0.77408 E">
                                      <p:cBhvr>
                                        <p:cTn id="48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700"/>
                            </p:stCondLst>
                            <p:childTnLst>
                              <p:par>
                                <p:cTn id="4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49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700"/>
                            </p:stCondLst>
                            <p:childTnLst>
                              <p:par>
                                <p:cTn id="49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200"/>
                            </p:stCondLst>
                            <p:childTnLst>
                              <p:par>
                                <p:cTn id="49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0.47899 0.72801 E">
                                      <p:cBhvr>
                                        <p:cTn id="498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200"/>
                            </p:stCondLst>
                            <p:childTnLst>
                              <p:par>
                                <p:cTn id="5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549440"/>
            <a:ext cx="878544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00ff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1" lang="de-CH" sz="8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88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1" nodeType="afterEffect" fill="hold" presetClass="exit" presetID="5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52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33d tr0ub13z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441440"/>
            <a:ext cx="1003320" cy="1987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12000" y="1441440"/>
            <a:ext cx="1090800" cy="1987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50920" y="4292640"/>
            <a:ext cx="1245960" cy="198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812000" y="4292640"/>
            <a:ext cx="1094040" cy="1989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81080" y="-1900080"/>
            <a:ext cx="9721800" cy="107280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93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-114300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path" presetID="3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C 0.03143 0.06042 0.07778 0.12292 0.11563 0.14792 C 0.17223 0.18842 0.22657 0.20393 0.23733 0.18356 C 0.24584 0.16342 0.20764 0.11319 0.15122 0.07268 C 0.11337 0.04745 0.04427 0.03009 -0.01649 0.02754 C -0.07534 0.03009 -0.1467 0.04745 -0.18454 0.07268 C -0.24097 0.11319 -0.27882 0.16342 -0.2684 0.18356 C -0.25781 0.20393 -0.20347 0.18842 -0.14895 0.14792 C -0.11111 0.12292 -0.06302 0.06042 -0.03333 1.48148E-006 C -0.00208 -0.06296 0.01893 -0.14607 0.01893 -0.19884 C 0.01893 -0.27917 0.00452 -0.34144 -0.01649 -0.34144 C -0.03576 -0.34144 -0.05225 -0.27917 -0.05225 -0.19884 C -0.05225 -0.14607 -0.02934 -0.06296 -3.61111E-006 1.48148E-006 Z">
                                      <p:cBhvr>
                                        <p:cTn id="120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600"/>
                            </p:stCondLst>
                            <p:childTnLst>
                              <p:par>
                                <p:cTn id="129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600"/>
                            </p:stCondLst>
                            <p:childTnLst>
                              <p:par>
                                <p:cTn id="13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181080" y="-1827360"/>
            <a:ext cx="9650520" cy="106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-139536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0nc3 m0r3, 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path" presetID="4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5521 -1.65208 L -0.31042 0.122 C -0.30156 0.122 -0.29323 -0.07662 -0.2816 -0.07986 C -0.26667 -0.03842 -0.23768 0.33704 -0.22049 0.37014 C -0.20365 0.37014 -0.19219 0.11852 -0.17795 0.11852 C -0.15868 0.11852 -0.2434 -0.06134 -0.2066 -0.06134 L -0.07674 -0.08032 L -0.11771 0.23866 L -0.01458 0.122 L 0.04444 0.29051 L 0.08107 0.12084 C 0.1118 0.11713 0.07934 -0.03101 0.11007 -0.03726 C 0.12118 -0.03819 0.13472 0.15301 0.15156 0.15533 C 0.1684 0.15811 0.19496 -0.01435 0.20035 -0.01319 C 0.20937 -0.0081 0.21562 0.15811 0.22656 0.16088 L 0.27396 0.08102 L 0.95312 0.38125 E">
                                      <p:cBhvr>
                                        <p:cTn id="16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7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93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0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0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93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91960"/>
            <a:ext cx="8229600" cy="61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0w3rp0Int</a:t>
            </a:r>
            <a:br>
              <a:rPr sz="9600"/>
            </a:br>
            <a:br>
              <a:rPr sz="9600"/>
            </a:b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ru1@z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5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209680" cy="575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32040" cy="575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16360" y="504720"/>
            <a:ext cx="28796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D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133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Pr0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5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500"/>
                            </p:stCondLst>
                            <p:childTnLst>
                              <p:par>
                                <p:cTn id="285" nodeType="afterEffect" fill="hold" presetClass="exit" presetID="53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17:55Z</dcterms:created>
  <dc:creator>powerpoint : robocop / music: maliktrey</dc:creator>
  <dc:description>;-)</dc:description>
  <dc:language>en-US</dc:language>
  <cp:lastModifiedBy>RBC</cp:lastModifiedBy>
  <dcterms:modified xsi:type="dcterms:W3CDTF">2005-08-16T04:12:34Z</dcterms:modified>
  <cp:revision>47</cp:revision>
  <dc:subject>buenzli powerpoint fun compo</dc:subject>
  <dc:title>atl-007-p0w3rp0Int ru1@z</dc:title>
</cp:coreProperties>
</file>